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D312C-69B3-4D25-BE65-25C453352E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5F8B5-B0C5-42C8-9E0B-D52F5F0E42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1244-1A29-4B52-83CD-9E2959BBB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DA1D-AA2A-4E11-8A0C-EEC7AB122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3E0D-E305-41B7-AF28-60C709A26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5867-0603-4BB1-B253-7ACC88A6E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19D5F-2C12-422A-804E-B6E338E3B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71318-1301-41F2-9E6D-CA7DDB2D7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8231F-F2D6-4ECF-9CFB-537B30273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8B39C-98C7-4FD7-B925-A385EB994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792ED-B195-45C9-82E7-93564CCFA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CC8BE-798B-44FB-B85F-927F63943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CAF9A-C851-45DF-B554-74DED540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7E72-9CCC-4600-8A8D-02F3D7816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FC082-6C5B-47FB-ADBA-A8798DCB9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A11B5-4ABC-4B18-920A-1359B6B2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82488-6D46-4C4A-84A1-E64D31093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45497-9F29-4AC6-B809-5F275FD4C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BFFE7-20D1-43BC-9821-E80D888EB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158B5-60A4-44DD-A139-486116381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87606-C73A-4ECC-9A40-DC17557CC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F6B36-53E3-45C8-BE4E-9494B0717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8CEEB-DF73-4E74-B65E-E91979D4F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234E8-5870-4415-9A39-C323E5A4B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8377-885B-4CB8-8FCB-0091E756E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7B780-6309-48FA-8C0C-B7F7D7E48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A5802-B0F8-44B8-9EB3-D28D40E9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D1AD2-D5A4-4263-A22A-2895A716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F06C4-D523-4F0D-AC65-36188663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EC4FB-B293-4608-8139-AF7E8A439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81A42-C62A-4858-BFDD-32D2B39A8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66355-ACCF-4E42-899A-80F6C2F71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15D7A-0DC2-4C8D-95EC-3E3740C8A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2D6D6-0C23-4154-A252-C2090E3EA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9205C-F7C9-4E6D-8A28-B9D8E296A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6516-2E6B-4FBF-B86A-A9DA207D6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85AC5-053F-4D8A-8EEF-9F16800A3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2A9CB-A444-4F3A-96E7-0E8836C5F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70D2A-82F3-498C-BF43-72B9E37BE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74274-810E-4709-AD70-DA604E91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C27AA-A4D6-4BCF-AD6C-97394D73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B7E2C-7302-4D3D-BF42-F39C2845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0DE56-5C6B-47BF-BAC6-16201A647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2C8E0-0D9E-4A3E-B4D5-C6C434EC7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5F6F4-67A5-4D8B-B5A2-D7C949EC6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D8E6F-0E2D-48F9-9111-826FD6B8F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0D43-C487-4B75-8C18-013F4D028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959CE-CD08-47B8-82AA-38C630191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EDFBB-A006-42EB-B0CB-AE0D51EEB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5F012-A69A-443E-BCFD-042246BC2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A7031-D0B3-47D5-8EEF-CFC8A55A8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1D9CB-FBC7-4EA3-86EC-E3E9FDA6F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974B9-C75F-4EDE-8F52-7C8B42C4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A7518-FF99-4348-A084-C7319F37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96E4B-2681-4676-A940-2DCE00EB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AFBED-443C-40FB-A64F-5E97B3402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81A80-0DB8-4E0F-8B49-04108B7F7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974B-7E35-4DE6-B1FB-B5AE74354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974AC-DD37-4ECE-BD1F-712CAB752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5B2E-0BCB-4635-8931-787AE39D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483F-5609-4591-BFE3-705A8341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80CB-4F2C-47DF-A4D0-2BCAD856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B4BFC-C993-4AE4-A6D5-8284C1E603A6}" type="slidenum">
              <a:rPr b="0" lang="ru-RU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8CE60-EB48-4EDF-AE93-181C76E19066}" type="slidenum">
              <a:rPr b="0" lang="ru-RU" sz="1200" spc="-1" strike="noStrike">
                <a:solidFill>
                  <a:srgbClr val="d1eaee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85E1-461E-4C5D-A54B-125EA86B4708}" type="slidenum">
              <a:rPr b="0" lang="ru-RU" sz="1200" spc="-1" strike="noStrike">
                <a:solidFill>
                  <a:srgbClr val="d1eaee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108BB-968A-410F-9CF1-10C5D38386C0}" type="slidenum">
              <a:rPr b="0" lang="ru-RU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0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DDCA2-2EA7-4F15-9D10-76520AA842F7}" type="slidenum">
              <a:rPr b="0" lang="ru-RU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58640"/>
            <a:ext cx="8229600" cy="190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4617b"/>
                </a:solidFill>
                <a:latin typeface="Times New Roman"/>
              </a:rPr>
              <a:t>Реформування </a:t>
            </a:r>
            <a:br>
              <a:rPr sz="6000"/>
            </a:br>
            <a:r>
              <a:rPr b="1" lang="uk-UA" sz="6000" spc="-1" strike="noStrike">
                <a:solidFill>
                  <a:srgbClr val="04617b"/>
                </a:solidFill>
                <a:latin typeface="Times New Roman"/>
              </a:rPr>
              <a:t>вищої освіти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1120" y="2444760"/>
            <a:ext cx="7929360" cy="34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Постанова КМУ №1187 від 30.12.2015 р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Про затвердження Ліцензійних умов провадження освітньої діяльності закладів освіти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4617b"/>
                </a:solidFill>
                <a:latin typeface="Times New Roman"/>
              </a:rPr>
              <a:t> </a:t>
            </a:r>
            <a:r>
              <a:rPr b="1" lang="uk-UA" sz="2500" spc="-1" strike="noStrike">
                <a:solidFill>
                  <a:srgbClr val="04617b"/>
                </a:solidFill>
                <a:latin typeface="Times New Roman"/>
              </a:rPr>
              <a:t>Проведення лекцій з навчальних дисциплін науково-педагогічними (науковими) працівниками відповідної спеціальності за основним місцем роботи </a:t>
            </a:r>
            <a:br>
              <a:rPr sz="2500"/>
            </a:br>
            <a:r>
              <a:rPr b="0" lang="uk-UA" sz="2500" spc="-1" strike="noStrike">
                <a:solidFill>
                  <a:srgbClr val="04617b"/>
                </a:solidFill>
                <a:latin typeface="Times New Roman"/>
              </a:rPr>
              <a:t>(мінімальний відсоток визначеної навчальним планом кількості годин):</a:t>
            </a: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533520" y="2514600"/>
          <a:ext cx="8229600" cy="4037040"/>
        </p:xfrm>
        <a:graphic>
          <a:graphicData uri="http://schemas.openxmlformats.org/drawingml/2006/table">
            <a:tbl>
              <a:tblPr/>
              <a:tblGrid>
                <a:gridCol w="3214440"/>
                <a:gridCol w="1800360"/>
                <a:gridCol w="1568520"/>
                <a:gridCol w="16462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ший рівень (ступінь бакалавр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й рівень (ступінь магістр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етій рівень (доктор філософії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) які мають науковий ступінь 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а/або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вчене зван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) які мають науковий ступінь доктора наук 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бо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вчене звання професор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) які мають науковий ступінь доктора наук 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а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вчене званн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Rectangle 4" descr=""/>
          <p:cNvPicPr/>
          <p:nvPr/>
        </p:nvPicPr>
        <p:blipFill>
          <a:blip r:embed="rId1"/>
          <a:stretch/>
        </p:blipFill>
        <p:spPr>
          <a:xfrm>
            <a:off x="530280" y="755640"/>
            <a:ext cx="86742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Rectangle 4" descr=""/>
          <p:cNvPicPr/>
          <p:nvPr/>
        </p:nvPicPr>
        <p:blipFill>
          <a:blip r:embed="rId1"/>
          <a:stretch/>
        </p:blipFill>
        <p:spPr>
          <a:xfrm>
            <a:off x="755640" y="755640"/>
            <a:ext cx="828504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4617b"/>
                </a:solidFill>
                <a:latin typeface="Times New Roman"/>
              </a:rPr>
              <a:t>Проведення лекцій з навчальних дисциплін, що забезпечують формування професійних компетентностей, науково-педагогічними (науковими) працівниками, які є визнаними професіоналами з досвідом роботи за фахом</a:t>
            </a:r>
            <a:r>
              <a:rPr b="1" lang="uk-UA" sz="2300" spc="-1" strike="noStrike">
                <a:solidFill>
                  <a:srgbClr val="04617b"/>
                </a:solidFill>
                <a:latin typeface="Times New Roman"/>
              </a:rPr>
              <a:t> </a:t>
            </a:r>
            <a:r>
              <a:rPr b="0" lang="uk-UA" sz="2200" spc="-1" strike="noStrike">
                <a:solidFill>
                  <a:srgbClr val="04617b"/>
                </a:solidFill>
                <a:latin typeface="Times New Roman"/>
              </a:rPr>
              <a:t>(мінімальний відсоток визначеної навчальним планом кількості годин):</a:t>
            </a: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457200" y="2895480"/>
          <a:ext cx="8229600" cy="3452760"/>
        </p:xfrm>
        <a:graphic>
          <a:graphicData uri="http://schemas.openxmlformats.org/drawingml/2006/table">
            <a:tbl>
              <a:tblPr/>
              <a:tblGrid>
                <a:gridCol w="3214800"/>
                <a:gridCol w="1800000"/>
                <a:gridCol w="1568520"/>
                <a:gridCol w="16462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ший рівень (ступінь бакалавр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й рівень (ступінь магістр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етій рівень (доктор філософії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) дослідницької, управлінської, інноваційної або творчої роботи за фахом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) практичної роботи за фахом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Rectangle 4" descr=""/>
          <p:cNvPicPr/>
          <p:nvPr/>
        </p:nvPicPr>
        <p:blipFill>
          <a:blip r:embed="rId1"/>
          <a:stretch/>
        </p:blipFill>
        <p:spPr>
          <a:xfrm>
            <a:off x="682560" y="755640"/>
            <a:ext cx="8236080" cy="45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4617b"/>
                </a:solidFill>
                <a:latin typeface="Times New Roman"/>
              </a:rPr>
              <a:t>Забезпеченість приміщеннями для проведення навчальних занять та контрольних заходів</a:t>
            </a:r>
            <a:r>
              <a:rPr b="0" lang="uk-UA" sz="2900" spc="-1" strike="noStrike">
                <a:solidFill>
                  <a:srgbClr val="04617b"/>
                </a:solidFill>
                <a:latin typeface="Times New Roman"/>
              </a:rPr>
              <a:t> </a:t>
            </a:r>
            <a:br>
              <a:rPr sz="2900"/>
            </a:br>
            <a:r>
              <a:rPr b="0" lang="uk-UA" sz="2900" spc="-1" strike="noStrike">
                <a:solidFill>
                  <a:srgbClr val="04617b"/>
                </a:solidFill>
                <a:latin typeface="Times New Roman"/>
              </a:rPr>
              <a:t>(кв. метрів на одну особу для фактичного контингенту студентів та заявленого обсягу </a:t>
            </a:r>
            <a:br>
              <a:rPr sz="2900"/>
            </a:br>
            <a:r>
              <a:rPr b="0" lang="uk-UA" sz="2900" spc="-1" strike="noStrike">
                <a:solidFill>
                  <a:srgbClr val="04617b"/>
                </a:solidFill>
                <a:latin typeface="Times New Roman"/>
              </a:rPr>
              <a:t>з урахуванням навчання за змінами)</a:t>
            </a: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533520" y="3747960"/>
          <a:ext cx="8003880" cy="2371680"/>
        </p:xfrm>
        <a:graphic>
          <a:graphicData uri="http://schemas.openxmlformats.org/drawingml/2006/table">
            <a:tbl>
              <a:tblPr/>
              <a:tblGrid>
                <a:gridCol w="2717640"/>
                <a:gridCol w="2716200"/>
                <a:gridCol w="2570040"/>
              </a:tblGrid>
              <a:tr h="160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ший рівен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ступінь бакалавра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й ріве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ступінь магістра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етій рівень (доктор філософії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4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4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4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Rectangle 4" descr=""/>
          <p:cNvPicPr/>
          <p:nvPr/>
        </p:nvPicPr>
        <p:blipFill>
          <a:blip r:embed="rId1"/>
          <a:stretch/>
        </p:blipFill>
        <p:spPr>
          <a:xfrm>
            <a:off x="566640" y="682560"/>
            <a:ext cx="8626680" cy="56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4617b"/>
                </a:solidFill>
                <a:latin typeface="Times New Roman"/>
              </a:rPr>
              <a:t>Забезпеченість</a:t>
            </a:r>
            <a:br>
              <a:rPr sz="3200"/>
            </a:br>
            <a:r>
              <a:rPr b="1" lang="uk-UA" sz="3200" spc="-1" strike="noStrike">
                <a:solidFill>
                  <a:srgbClr val="04617b"/>
                </a:solidFill>
                <a:latin typeface="Times New Roman"/>
              </a:rPr>
              <a:t>мультимедійним обладнанням для одночасного використання в навчальних аудиторіях </a:t>
            </a:r>
            <a:br>
              <a:rPr sz="3200"/>
            </a:br>
            <a:r>
              <a:rPr b="0" lang="uk-UA" sz="2800" spc="-1" strike="noStrike">
                <a:solidFill>
                  <a:srgbClr val="04617b"/>
                </a:solidFill>
                <a:latin typeface="Times New Roman"/>
              </a:rPr>
              <a:t>(мінімальний відсоток кількості аудиторій)</a:t>
            </a: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533520" y="3747960"/>
          <a:ext cx="8003880" cy="2154240"/>
        </p:xfrm>
        <a:graphic>
          <a:graphicData uri="http://schemas.openxmlformats.org/drawingml/2006/table">
            <a:tbl>
              <a:tblPr/>
              <a:tblGrid>
                <a:gridCol w="2717640"/>
                <a:gridCol w="2716200"/>
                <a:gridCol w="2570040"/>
              </a:tblGrid>
              <a:tr h="138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ший рівен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ступінь бакалавр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й рівен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ступінь магістр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етій рівень (доктор філософії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457200" y="38088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Забезпеченість комп’ютерними робочими місцями, лабораторіями, полігонами, обладнанням, устаткованням, необхідними для виконання навчальних плані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Враховується комп’ютерна техніка із строком експлуатації не більше восьми років.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Вказується марка, модель персонального комп'ютера, найменування пакетів прикладних програм (у т.ч. ліцензованих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Rectangle 4" descr=""/>
          <p:cNvPicPr/>
          <p:nvPr/>
        </p:nvPicPr>
        <p:blipFill>
          <a:blip r:embed="rId1"/>
          <a:stretch/>
        </p:blipFill>
        <p:spPr>
          <a:xfrm>
            <a:off x="493560" y="457200"/>
            <a:ext cx="851076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830592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000000"/>
                </a:solidFill>
                <a:latin typeface="Times New Roman"/>
              </a:rPr>
              <a:t>Під час ліцензування встановлюється спроможність закладу освіти провадити освітню діяльність відповідно до встановлених цими Ліцензійними умовами вимог:</a:t>
            </a:r>
            <a:endParaRPr b="0" lang="en-US" sz="3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у сфері вищої освіти — на певному рівні вищої освіти за певною спеціальністю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Наявність опису освітньої програми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Наявність навчального плану та пояснювальної записки до ньог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Наявність комплексу навчально-методичного забезпечення 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з кожної навчальної дисципліни навчального плану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Наявність методичних матеріалів для проведення атестації здобувачів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just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100" spc="-1" strike="noStrike">
                <a:solidFill>
                  <a:srgbClr val="04617b"/>
                </a:solidFill>
                <a:latin typeface="Times New Roman"/>
              </a:rPr>
              <a:t>	</a:t>
            </a:r>
            <a:r>
              <a:rPr b="0" lang="uk-UA" sz="3100" spc="-1" strike="noStrike">
                <a:solidFill>
                  <a:srgbClr val="04617b"/>
                </a:solidFill>
                <a:latin typeface="Times New Roman"/>
              </a:rPr>
              <a:t>Забезпеченість студентів навчальними матеріалами з кожної навчальної дисципліни навчального плану</a:t>
            </a: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25142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Забезпеченістю навчальними матеріалами вважається наявність підручників, навчальних посібників, конспектів лекцій, хрестоматій згідно з переліком рекомендованої літератури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з розрахунку один примірник на п’ять осіб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фактичного контингенту студентів та заявленого додаткового ліцензованого обсягу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бо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Їх наявність в електронній формі (у локальному чи віддаленому доступі) для необмеженої кількості користувачів з дотриманням вимог законодавства про інтелектуальну власність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Rectangle 4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868680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Забезпеченість бібліотеки вітчизняними та закордонними фаховими періодичними виданнями відповідного або спорідненого профілю, в тому числі в електронному вигляді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Наявність доступу до баз даних періодичних наукових видань англійською мовою відповідного або спорідненого профілю (допускається спільне користування базами кількома закладами освіти)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Наявність офіційного веб-сайту закладу освіти, на якому розміщена основна інформація про його діяльність, освітні програми, перелік навчальних дисциплін, правила прийому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04617b"/>
                </a:solidFill>
                <a:latin typeface="Times New Roman"/>
              </a:rPr>
              <a:t>Наявність електронного ресурсу закладу освіти, який містить навчально-методичні матеріали з навчальних дисциплін навчального плану, в тому числі в системі дистанційного навчання</a:t>
            </a:r>
            <a:br>
              <a:rPr sz="3600"/>
            </a:br>
            <a:r>
              <a:rPr b="0" lang="uk-UA" sz="2800" spc="-1" strike="noStrike">
                <a:solidFill>
                  <a:srgbClr val="04617b"/>
                </a:solidFill>
                <a:latin typeface="Times New Roman"/>
              </a:rPr>
              <a:t> (мінімальний відсоток навчальних дисциплін)</a:t>
            </a: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533520" y="3747960"/>
          <a:ext cx="8003880" cy="2154240"/>
        </p:xfrm>
        <a:graphic>
          <a:graphicData uri="http://schemas.openxmlformats.org/drawingml/2006/table">
            <a:tbl>
              <a:tblPr/>
              <a:tblGrid>
                <a:gridCol w="2717640"/>
                <a:gridCol w="2716200"/>
                <a:gridCol w="2570040"/>
              </a:tblGrid>
              <a:tr h="138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ший рівен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ступінь бакалавр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й рівен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ступінь магістр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етій рівень (доктор філософії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4617b"/>
                </a:solidFill>
                <a:latin typeface="Times New Roman"/>
              </a:rPr>
              <a:t>Вимоги до науково-педагогічних працівників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7616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Відповідність спеціальності викладача навчальній дисципліні визначається відповідністю його спеціальності згідно з документами про вищу освіту або про науковий ступінь, або про вчене звання або науковою спеціальністю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бо досвідом практичної роботи за відповідним фахом не менше п’яти років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бо проходженням відповідного науково-педагогічного стажування тривалістю не менше шести місяців та наявністю трьох одноосібних публікацій з цієї навчальної дисципліни у рецензованих закордонних або фахових наукових виданнях України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ts val="2398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бо виданого підручника чи навчального посібника з цієї навчальної дисципліни згідно з вимогами МОН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4802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4617b"/>
                </a:solidFill>
                <a:latin typeface="Times New Roman"/>
              </a:rPr>
              <a:t>До докторів наук прирівнюються науково-педагогічні працівники з науковим ступенем доктора філософії (кандидата наук) за умови наявності у них п’яти статей у періодичних виданнях, які включені до наукометричних баз, зокрема Scopus або Web of Science Core Collection, рекомендованих МОН.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04617b"/>
                </a:solidFill>
                <a:latin typeface="Times New Roman"/>
              </a:rPr>
              <a:t>Визначення  рівня наукової та професійної активності науково-педагогічного (наукового) працівника  </a:t>
            </a:r>
            <a:br>
              <a:rPr sz="4500"/>
            </a:br>
            <a:r>
              <a:rPr b="1" lang="uk-UA" sz="4500" spc="-1" strike="noStrike">
                <a:solidFill>
                  <a:srgbClr val="04617b"/>
                </a:solidFill>
                <a:latin typeface="Times New Roman"/>
              </a:rPr>
              <a:t>засвідчується виконанням за останні п’ять років не менше трьох умов, використовуються показники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1. Наявність наукової публікації у періодичному виданні, яке включено до наукометричних баз, зокрема Scopus або Web of Science Core Collection, рекомендованих МОН.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2. Наявність наукових публікацій у наукових виданнях, включених до переліку наукових фахових видань України, та/або авторських свідоцтв, та/або патентів загальною кількістю п’ять досягнень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457200" y="304560"/>
            <a:ext cx="822960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Наявність виданого підручника чи навчального посібника, що рекомендований МОН, іншим центральним органом виконавчої влади або вченою радою закладу освіти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- монографії (у разі співавторства — з фіксованим власним внеском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Наукове керівництво (консультування) здобувача, який одержав документ про присудження наукового ступен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5. Участь у міжнародному науковому проекті/залучення до міжнародної експертизи, наявність звання “суддя міжнародної категорії”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4617b"/>
                </a:solidFill>
                <a:latin typeface="Times New Roman"/>
              </a:rPr>
              <a:t>Ліцензійними умовами щодо провадження освітньої діяльності встановлюються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26665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Кадрові вимог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Вимоги щодо матеріально-технічного забезпеченн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Вимоги до навчально-методичного забезпеченн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Вимоги до інформаційного забезпеченн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6. Проведення навчальних занять іноземною мовою (крім мовних навчальних дисциплін) в обсязі не менше 50 аудиторних годин на навчальний рік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Науково-педагогічні (педагогічні) працівники, які забезпечують провадження освітньої діяльності іншою, крім української та російської, мовою, повинні мати сертифікат відповідно до Загальноєвропейської рекомендації з мовної освіти (на  рівні не нижче В2) або кваліфікаційні документи, пов’язані з використанням іноземної мови.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7. Робота у складі експертних рад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- з питань проведення експертизи дисертацій МОН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- галузевих експертних рад Національного агентства із забезпечення якості вищої освіти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- Акредитаційної комісії, або їх експертних рад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- міжгалузевої експертної ради з вищої освіти Акредитаційної комісії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- трьох експертних комісій МОН/зазначеного Агентства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- Науково-методичної ради/науково-методичних комісій з вищої освіти МОН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- робочих груп з розроблення стандартів вищої освіти Україн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609120" y="380520"/>
            <a:ext cx="807732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8. Виконання функцій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- наукового керівник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- відповідального виконавця наукової теми (проекту)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- головного редактора/члена редакційної колегії наукового видання, включеного до переліку наукових фахових видань України, іноземного рецензованого наукового видання;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 algn="just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9. Керівництво студентом, який зайняв призове місце, робота у складі організаційного комітету/журі/апеляційної комісії Міжнародної студентської олімпіади/II етапу Всеукраїнської студентської олімпіади (Всеукраїнського конкурсу студентських наукових робіт)/III—IV етапу Всеукраїнських учнівських олімпіад з базових навчальних предметів/II—III етапу Всеукраїнських конкурсів-захистів науково-дослідницьких робіт учнів — членів Малої академії наук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- керівництво студентом, який став призером Олімпійських, Паралімпійських ігор, Всесвітньої та Всеукраїнської Універсіади, чемпіонату світу, Європи, Європейських ігор, етапів Кубку світу та Європи, чемпіонату України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- виконання обов’язків головного секретаря, головного судді, судді міжнародних та всеукраїнських змагань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- керівництво спортивною делегацією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- робота у складі організаційного комітету, суддівського корпусу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10. Організаційна робота у закладах освіти на посадах керівника (заступника керівника) закладу освіти/факультету/відділення (наукової установи)/ інституту/філії/кафедри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- іншого відповідального за підготовку здобувачів вищої освіти підрозділу/відділу (наукової установи)/навчально-методичного управління (відділу)/лабораторії/іншого навчально-наукового (інноваційного) структурного підрозділу/вченого секретаря закладу освіти (факультету, інституту)/відповідального секретаря приймальної комісії та його заступник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11. Участь в атестації наукових кадрів як офіційного опонента або члена спеціалізованої вченої рад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12. Присудження наукового ступеня доктора наук або присвоєння вченого звання професор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13. Наявність авторських свідоцтв та/або патентів загальною кількістю два досягненн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14. Наявність виданих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uk-UA" sz="2600" spc="-1" strike="noStrike">
                <a:solidFill>
                  <a:srgbClr val="000000"/>
                </a:solidFill>
                <a:latin typeface="Times New Roman"/>
              </a:rPr>
              <a:t>- навчально-методичних посібників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uk-UA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uk-UA" sz="2600" spc="-1" strike="noStrike">
                <a:solidFill>
                  <a:srgbClr val="000000"/>
                </a:solidFill>
                <a:latin typeface="Times New Roman"/>
              </a:rPr>
              <a:t>- посібників для самостійної роботи студентів та дистанційного навчанн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uk-UA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uk-UA" sz="2600" spc="-1" strike="noStrike">
                <a:solidFill>
                  <a:srgbClr val="000000"/>
                </a:solidFill>
                <a:latin typeface="Times New Roman"/>
              </a:rPr>
              <a:t>- конспектів лекці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uk-UA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uk-UA" sz="2600" spc="-1" strike="noStrike">
                <a:solidFill>
                  <a:srgbClr val="000000"/>
                </a:solidFill>
                <a:latin typeface="Times New Roman"/>
              </a:rPr>
              <a:t>- практикумів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uk-UA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uk-UA" sz="2600" spc="-1" strike="noStrike">
                <a:solidFill>
                  <a:srgbClr val="000000"/>
                </a:solidFill>
                <a:latin typeface="Times New Roman"/>
              </a:rPr>
              <a:t>- методичних рекомендацій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Times New Roman"/>
              </a:rPr>
              <a:t>Загальною кількістю три найменування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457200" y="9903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15. Присудження наукового ступеня доктора філософії або присвоєння вченого звання доцента, або отримання документа про другу вищу освіт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457200" y="304560"/>
            <a:ext cx="8229600" cy="60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16. Керівництво студентом, який зайняв призове місце на I етапі Всеукраїнської студентської олімпіади (Всеукраїнського конкурсу студентських наукових робіт)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- робота у складі організаційного комітету/журі Всеукраїнської студентської олімпіади (Всеукраїнського конкурсу студентських наукових робіт)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- керівництво постійно діючим студентським науковим гуртком/проблемною групою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- виконання обов’язків куратора групи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- керівництво студентом, який брав участь в Олімпійських, Паралімпійських іграх, Всесвітній та Всеукраїнській Універсіаді, чемпіонаті світу, Європи, Європейських іграх, етапах Кубку світу та Європи, чемпіонаті України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- виконання обов’язків тренера, помічника тренера національної збірної команди  України з видів спорту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Times New Roman"/>
              </a:rPr>
              <a:t>Дякуємо за увагу!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04617b"/>
                </a:solidFill>
                <a:latin typeface="Times New Roman"/>
              </a:rPr>
              <a:t>Організаційні вимоги </a:t>
            </a:r>
            <a:br>
              <a:rPr sz="4500"/>
            </a:br>
            <a:r>
              <a:rPr b="1" lang="uk-UA" sz="4500" spc="-1" strike="noStrike">
                <a:solidFill>
                  <a:srgbClr val="04617b"/>
                </a:solidFill>
                <a:latin typeface="Times New Roman"/>
              </a:rPr>
              <a:t>щодо провадження освітньої діяльності у сфері вищої освіт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5335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Здобувач ліцензії забезпечує подання в електронному вигляді даних та відомостей до Єдиної державної електронної бази з питань освіти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інформація про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кадрове забезпечення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подається кожного навчального року до 1 березня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інформація про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матеріально-технічне забезпечення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— до 31 грудня або протягом трьох місяців після зміни інформації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інформація про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навчально-методичне та інформаційне забезпечення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оприлюднюється на офіційному веб-сайті закладу освіти до подання заяв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Rectangle 2" descr=""/>
          <p:cNvPicPr/>
          <p:nvPr/>
        </p:nvPicPr>
        <p:blipFill>
          <a:blip r:embed="rId1"/>
          <a:stretch/>
        </p:blipFill>
        <p:spPr>
          <a:xfrm>
            <a:off x="109440" y="1139760"/>
            <a:ext cx="88027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272520"/>
            <a:ext cx="8001000" cy="21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4617b"/>
                </a:solidFill>
                <a:latin typeface="Times New Roman"/>
              </a:rPr>
              <a:t> </a:t>
            </a:r>
            <a:r>
              <a:rPr b="1" lang="uk-UA" sz="3200" spc="-1" strike="noStrike">
                <a:solidFill>
                  <a:srgbClr val="04617b"/>
                </a:solidFill>
                <a:latin typeface="Times New Roman"/>
              </a:rPr>
              <a:t>Наявність випускової кафедри </a:t>
            </a:r>
            <a:br>
              <a:rPr sz="3200"/>
            </a:br>
            <a:r>
              <a:rPr b="1" lang="uk-UA" sz="3200" spc="-1" strike="noStrike">
                <a:solidFill>
                  <a:srgbClr val="04617b"/>
                </a:solidFill>
                <a:latin typeface="Times New Roman"/>
              </a:rPr>
              <a:t>із спеціальної (фахової) підготовки,</a:t>
            </a:r>
            <a:br>
              <a:rPr sz="3200"/>
            </a:br>
            <a:r>
              <a:rPr b="1" lang="uk-UA" sz="3200" spc="-1" strike="noStrike">
                <a:solidFill>
                  <a:srgbClr val="04617b"/>
                </a:solidFill>
                <a:latin typeface="Times New Roman"/>
              </a:rPr>
              <a:t> яку очолює фахівець відповідної або спорідненої науково-педагогічної  спеціальності:</a:t>
            </a: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609480" y="2590920"/>
          <a:ext cx="8001000" cy="3757320"/>
        </p:xfrm>
        <a:graphic>
          <a:graphicData uri="http://schemas.openxmlformats.org/drawingml/2006/table">
            <a:tbl>
              <a:tblPr/>
              <a:tblGrid>
                <a:gridCol w="3124440"/>
                <a:gridCol w="1752480"/>
                <a:gridCol w="1523880"/>
                <a:gridCol w="16002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ший рівень (ступінь бакалавр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й рівень (ступінь магістр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етій рівень (доктор філософії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) з науковим ступенем доктора наук та вченим званням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) з науковим ступенем та вченим званням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) з науковим ступенем або вченим званням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2851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4617b"/>
                </a:solidFill>
                <a:latin typeface="Times New Roman"/>
              </a:rPr>
              <a:t> </a:t>
            </a:r>
            <a:r>
              <a:rPr b="1" lang="uk-UA" sz="2800" spc="-1" strike="noStrike">
                <a:solidFill>
                  <a:srgbClr val="04617b"/>
                </a:solidFill>
                <a:latin typeface="Times New Roman"/>
              </a:rPr>
              <a:t>Наявність у складі кафедри, </a:t>
            </a:r>
            <a:br>
              <a:rPr sz="2800"/>
            </a:br>
            <a:r>
              <a:rPr b="1" lang="uk-UA" sz="2800" spc="-1" strike="noStrike">
                <a:solidFill>
                  <a:srgbClr val="04617b"/>
                </a:solidFill>
                <a:latin typeface="Times New Roman"/>
              </a:rPr>
              <a:t>відповідальних за підготовку здобувачів вищої освіти, тимчасової робочої групи (проектної групи) з науково-педагогічних працівників, на яку покладено відповідальність за підготовку здобувачів вищої освіти за певною спеціальністю</a:t>
            </a:r>
            <a:br>
              <a:rPr sz="2800"/>
            </a:br>
            <a:r>
              <a:rPr b="1" lang="uk-UA" sz="2800" spc="-1" strike="noStrike">
                <a:solidFill>
                  <a:srgbClr val="04617b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04617b"/>
                </a:solidFill>
                <a:latin typeface="Times New Roman"/>
              </a:rPr>
              <a:t>(при започаткуванні спеціальності)</a:t>
            </a: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331920" y="3263760"/>
          <a:ext cx="8354880" cy="3017880"/>
        </p:xfrm>
        <a:graphic>
          <a:graphicData uri="http://schemas.openxmlformats.org/drawingml/2006/table">
            <a:tbl>
              <a:tblPr/>
              <a:tblGrid>
                <a:gridCol w="2462040"/>
                <a:gridCol w="3378240"/>
                <a:gridCol w="2514600"/>
              </a:tblGrid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ший рівень (ступінь бакалавра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й рівень (ступінь магістра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етій рівень (доктор філософії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и особи, що мають науковий ступінь та/або вчене звання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и особи, що мають науковий ступінь та вчене звання, з них один доктор наук або професор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и особи, що мають науковий ступінь та вчене звання, з них не менше двох докторів наук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632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4617b"/>
                </a:solidFill>
                <a:latin typeface="Times New Roman"/>
              </a:rPr>
              <a:t> </a:t>
            </a:r>
            <a:r>
              <a:rPr b="1" lang="uk-UA" sz="3600" spc="-1" strike="noStrike">
                <a:solidFill>
                  <a:srgbClr val="04617b"/>
                </a:solidFill>
                <a:latin typeface="Times New Roman"/>
              </a:rPr>
              <a:t>Наявність у керівника проектної групи</a:t>
            </a:r>
            <a:br>
              <a:rPr sz="3600"/>
            </a:br>
            <a:r>
              <a:rPr b="1" lang="uk-UA" sz="3600" spc="-1" strike="noStrike">
                <a:solidFill>
                  <a:srgbClr val="04617b"/>
                </a:solidFill>
                <a:latin typeface="Times New Roman"/>
              </a:rPr>
              <a:t> (гаранта освітньої програми):</a:t>
            </a: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533520" y="1905120"/>
          <a:ext cx="8381880" cy="4505040"/>
        </p:xfrm>
        <a:graphic>
          <a:graphicData uri="http://schemas.openxmlformats.org/drawingml/2006/table">
            <a:tbl>
              <a:tblPr/>
              <a:tblGrid>
                <a:gridCol w="3273480"/>
                <a:gridCol w="1834920"/>
                <a:gridCol w="1596960"/>
                <a:gridCol w="167652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ший рівень (ступінь бакалавр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й рівень (ступінь магістр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етій рівень (доктор філософії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) наукового ступеня та/або вченого звання за відповідною або спорідненою спеціальністю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) наукового ступеня та вченого звання за відповідною або спорідненою спеціальністю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) стажу науково-педагогічної та/або наукової роботи не менш як 10 рокі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6-04-06T21:13:10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